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36A4-52D1-434B-9617-E236F010D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und for AIDS, TB, and Malaria, which recommends 10% of program budgets go to M&amp;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 TB – encouraging M&amp;E under expanded DOTS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AID – went from spending very little in 1998 ($8 million) to over $200 million last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s between TB and HIV epide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Plus – to qualify for drugs from Green Light Committee, countries needed more systematic monitoring and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how Compendium was develop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 of assessment visits was to see what was already out there – we did not want to increase the burden of data collection but also knew that many programs already collected so much info – wanted to see if we could use data that are collected but not reported or even used to identify problems or for program improv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chosen based on region and presence of specific program types and challe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untry – met with key partners and visited faciity, district and national level offices to review data collection and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s – go over these.  Third bullet – case-detection and treatment-outcome data already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of expanded DOTS frameword and an example of an indicator from each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let 1 – This refers to input, process, output, outcome, impact.  The idea is to get everyone on the same page in terms of how we think about M&amp;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let 2 – Also aimed at standardization, but in terms of what is actually reported.  Making sure everyone uses the same numerators and denominators, criteria for assessing qualitative indic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let 3 - Provide guidance for the development of comprehensive evaluation plans, including selection of indicators to measure progress in specific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let 4 – Go beyond indicators, provide information/guidance on planning for M&amp;E and strengthening M&amp;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cus is on disease control, where a patient-centered or quality approach may serve us be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– this is the core of M&amp;E prior to Compendium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a visual of how all the elements fi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for understanding and analyzing 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and output are murky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hows how Compendium contributes to expanded M&amp;E activities through use of M&amp;E framework, new indicators for key DOTS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a visual of how all the elements fi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for understanding and analyzing 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and output are murky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04E5-7FB0-4B0C-AFEE-1D2BA474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93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017-2D9B-48F3-89F6-8A38BFF7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020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F3C9-2741-4EAF-B158-6CB0E0C4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7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496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9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7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496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359-540C-4F9A-82C2-66D4CFB3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A56-9415-43DC-8517-22969AE1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432-0FD5-4E33-8F6C-57AF0E3A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569-9FB9-42DE-81A2-2D571314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054-FF63-491A-8A3C-E8894AD0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33F7-15DA-4FC2-B349-4F84A88F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DD0-5833-476D-B7AA-1F42A754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020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761E-A3F8-4CD7-BB2F-B713D44C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5B2-3626-4567-9253-65F234BB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2D55-9572-46C6-B432-7E62FFEF2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0024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857520" cy="819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52280" y="6029280"/>
            <a:ext cx="91440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0560" y="342900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mpendium of Indicators for Monitoring and Evaluating National Tuberculosis Program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47920" y="5867280"/>
          <a:ext cx="152388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5867280"/>
                    <a:ext cx="15238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943600" y="5791320"/>
            <a:ext cx="297972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Why a new TB M&amp;E Guide?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ew Global Initiatives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Global Fund for AIDS, TB, &amp; Malaria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TOP TB Partnership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creased USAID involvem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B/HIV initiative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OTS Plu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mpendium Developmen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tep 1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: Assessment of existing M&amp;E systems within National TB programs and MOH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tep 2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: Create an international TB M&amp;E working group to develop and review indicators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tep 3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: Field test indicators in selected countri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tep 4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: Build capacity in M&amp;E to collect, disseminate and use information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Step 1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: Assessment of current M&amp;E systems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eld visits to examine M&amp;E systems: data collection forms, reporting, supervision, data us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uth Africa, Russia, Honduras, Philippine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et with NTPs, USAID missions, WHO, CDC, local implementing partner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view of literature on TB indicator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Results from assessment visit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ubstantial amount of data collected at facility level that is not reporte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Weakness in reporting mechanisms for  facility level data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ew indicators on political commitment, IEC activities, drug supply, and TB/HIV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ack of data from private-sector physician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Step 2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: Creation of international working group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milar goals to develop more informative indicators on program implement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ring expertise from a wide variety of sources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top TB, WHO, UNION, KNCV, CDC, USAID,  World Bank, MSH, MEASURE/Evalu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esults of TB M&amp;E Working Group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Indicators for DOTS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: Measure key aspects of the TB epidemic in a country and the programmatic response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ased on WHO recommendations and collected through existing system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xternal and expert review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Step 3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: Field testing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eru, Kazakhstan, Haiti, and Thailan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vision of indicators based on field-testing result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1240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Step 4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: Building capa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43434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gypt (March ‘05), Mexico (April ‘05), Tanzania (September ‘05), India (this workshop), Eastern Europe (TBD ‘0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echnical assist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120" y="22824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Indicators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Global indicators (5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ase detec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reatment succes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OTS coverag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IV seroprevalence among TB cas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urveillance of MDR-TB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outinely reported program outcome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ase detection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mear convers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reatment outcom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-3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Indicators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dicators to measure DOTS implementation under expanded framework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olitical commitment (12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TP annual workplan and budge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iagnosis (7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xistence of comprehensive laboratory network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ase management, including DOT (2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oportion of patients with correct prescrip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rug management (8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xistence of a quality assurance system for drug managemen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Indicators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dicators to measure DOTS implementation under expanded framework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cording and reporting (2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ccuracy of reports sent to NTP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upervision (2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xistence of supervision guidelin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uman resources development (3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oportion of health centers with at least one professional trained in the DOTS strategy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ealth systems (1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quitable distribution of DOT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Objectives of Session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vide an overview of the development of Compendium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xplain the organization of the Compendium and how indicators are use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vide examples of how each subheading for an indicator guides selection/use of indicator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What is the Compendium?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 comprehensive and standardized collection of the most widely used and recommended indicators for monitoring and evaluation of National TB Programs.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Who is it for?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TP managers, data managers, regional and district officer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GO program managers/data managers involved in TB programm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valuation specialist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Health-system planners (HMIS, etc.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nyone with responsibility for collecting, processing, analyzing, and presenting data on tuberculosis programs.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Specific Objectiv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tandardize M&amp;E terminology across indicators and programs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ncourage consistent use of indicators to monitor and evaluate program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vide guidance for the development of comprehensive evaluation plans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rve as a resource for the different components of the monitoring and evaluation process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urrent status of TB M&amp;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atient follow up/case management using WHO standardized form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mall number of indicators focusing on outcomes of DOTS implement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ject-specific monitoring form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eriodic assessment visits at facility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Why a new TB M&amp;E Guide?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eed for a broader view of M&amp;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puts-processes-outputs-impact: allows better understanding of how to achieve impac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tandardized guidance for global us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gram-based to complement case-managem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gram-specific indicators for different settings, types of program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1844640"/>
            <a:ext cx="1447560" cy="295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olicy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uman and Financial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1844640"/>
            <a:ext cx="1752480" cy="323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rug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1844640"/>
            <a:ext cx="1600200" cy="37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iagnostic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eatment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mproved knowledge, attitudes, and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duced stig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1944720" cy="129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Case 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Treatment 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1844640"/>
            <a:ext cx="1447920" cy="267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evalence of TB inf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evalence of TB dis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B morb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B mort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5560" y="533520"/>
            <a:ext cx="821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M&amp;E Framework for TB pro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37320" y="4564080"/>
            <a:ext cx="127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51640" y="259092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3120" y="6093000"/>
            <a:ext cx="811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7, Compendium of Indicators for Monitoring and Evaluating National Tuberculosis Pro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SAID, MEASURE, CDC, WHO, IUATLD, KNCV, MSH. WHO/HTM/TB/2004.344, August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1844640"/>
            <a:ext cx="1447560" cy="295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Policy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Human and Financial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1844640"/>
            <a:ext cx="1752480" cy="323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Drug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1844640"/>
            <a:ext cx="1600200" cy="37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Diagnostic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Treatment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mproved knowledge, attitudes, and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duced stig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35640" y="1844640"/>
            <a:ext cx="1944720" cy="129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Case 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Treatment 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1844640"/>
            <a:ext cx="1447920" cy="267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evalence of TB inf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evalence of TB dis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B morb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B mort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533520"/>
            <a:ext cx="821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M&amp;E Framework for TB Pro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37320" y="4564080"/>
            <a:ext cx="127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51640" y="259092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3120" y="6093000"/>
            <a:ext cx="811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7, Compendium of Indicators for Monitoring and Evaluating National Tuberculosis Pro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SAID, MEASURE, CDC, WHO, IUATLD, KNCV, MSH. WHO/HTM/TB/2004.344, August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8:04:38Z</dcterms:created>
  <dc:creator>smullen</dc:creator>
  <dc:description/>
  <dc:language>en-US</dc:language>
  <cp:lastModifiedBy>Carolina Population Center</cp:lastModifiedBy>
  <dcterms:modified xsi:type="dcterms:W3CDTF">2006-11-08T17:34:34Z</dcterms:modified>
  <cp:revision>50</cp:revision>
  <dc:subject/>
  <dc:title>No Slide Title</dc:title>
</cp:coreProperties>
</file>